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254-E62E-4463-A775-9A0BAB2F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2D6-F783-4208-BD3B-4B9CDA27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DDE86-CD83-45DE-97AD-A9CA766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2C60B-921C-49C6-A511-865A766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24A2B-69A9-4367-964E-C8E0973D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E4E3F-A713-4FDD-9CC9-A1D3973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C8E7-0847-400C-89F7-CA8FDC7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E88BF-A46E-4E87-B6CA-5748299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44B9F-25B9-44E5-B21C-3AD752AD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5835-579D-41C6-BD38-9A225072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2B099-E674-453D-9851-775B0B83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65EC3-6CA0-4C56-9FD3-A724690D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8D1-27D3-462F-BDF4-98EB8889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16424-C403-488D-9BF0-9DA7D4F2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DD210-721D-4612-B623-8F6668D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8B9F-CE2B-4084-9A94-B108E61B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CF1AC-9FE1-483A-8041-4E0E5F5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7E8EC-85A8-4FC0-9FAA-58DF86F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9B103-8326-4326-A07C-94A4871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C24F-9714-402F-B2FA-9A2AD36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70C1-6811-44DB-B6F8-422A50A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03941-9BEC-4A7D-A240-E16109D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24FC5-853A-4E7B-9264-0144CE1E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C0A-D6E2-4AE1-A314-911EFD91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97FBB-8CC6-4013-AD74-C6970F82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7EB5E-A2CD-466F-896A-73B21C5E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871D-2058-45FA-A51F-DAE9F34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C8D4D-3A25-4C43-92BA-A9B206E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0F07F-0959-4D6D-8BF3-164E1D5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01A2-8C6D-4517-940D-898D94B0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48BB5-69E2-403F-82DF-751FE06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DC05-8B35-4B08-83DE-A70F347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078B-7C97-4DFE-8333-02E8152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B1B53-D780-4836-AD15-5369C7C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DC0D-A64C-4D73-9A9E-905E7C53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5B79-DD8C-4941-8530-5EFCE70F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6263-18C7-4DED-9FA6-92B0B374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0453-6D80-4AEC-9AB7-11E5C38F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E53BC-1EB0-4020-8B0B-3E290841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D43B6-1920-48EC-9604-C3AF07F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3A431-5E4B-4F5C-8205-B91ED27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89C53-788E-4565-9C51-8ED9016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E3B50-58F5-4A00-BD4C-9763E7C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CCD3-D6F2-40DF-BCB9-6F2A4E92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84F3E-3878-4706-940C-3D0FDD8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A943-941C-47B2-B916-72D7615E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1EBB6-701F-4074-8DDC-E6F214E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1E03F-C6F5-40D4-B17A-C54AE9B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6144B-33B9-40FE-B144-9ED14692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EF59-74E8-47A0-AB4F-3AFE3675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F410-7711-4BCD-AB63-E05A6205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3DE46-240D-49A4-B667-738CF5BA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782E0-F669-40D5-8F29-A8BF629D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3A84A-9912-40A3-8B35-C80CE253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830FB-5719-44ED-8B06-85849D4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D97D9-75EF-44C9-A5E5-EFF8745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61B-4CF9-48B4-ABF3-DD283537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9C56B-8EAC-4300-83AC-D51363E6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C57B3-F63B-42D1-8D59-721A2FE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6F453-1139-46E4-92A3-F87A297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28AD8-491B-42F7-BF77-31A46E1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51EBF-4E84-4FD7-A104-6D69987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B3C85-873A-4C45-A9C3-EF427D90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CF1C3-8AF7-437C-B83A-C66F8FE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ABA01-F880-4BD5-B1E5-09013F25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7FD8C-0F13-4C8D-BC8A-CAEE94D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2715A-C831-4002-8032-9A3896A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C51F-6D6A-44BF-9DBA-B03E2D32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22FFA-DDAA-43EA-A2AA-7F018281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FAD38-4FEC-4A2F-BE34-BF9B4E4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4D8C5-C7BE-45AD-9578-C3CDA03B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71452-F02D-42F0-927D-C8B7F93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80D7E-2C21-4BD7-90C7-7A30033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C8341-BCA6-48F6-97DA-C7297B8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30FB3-ED59-4A05-B6B7-7B4BBB6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242B7-EE43-4E23-B0BB-C592479F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0A8BB-F5FB-44A9-A539-9FBF736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721EA-B7C6-487C-AB53-4939CCCA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4C74-96DE-48F6-B66C-118555F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27A03-E9DC-4C1B-B772-AFA3D55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6B1AB-01C0-41DD-9D40-ABA832D6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50383-1444-445E-8ED5-489EC41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331BE-CE0B-4CC2-9618-4592DA6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2E401-B1FA-42B3-821B-B952BCA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28A64-77C2-4CCB-8975-DFBB4CD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94CE5-9626-45EF-9F0D-8B7E9C2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EEBF4-32CE-4D65-9423-D264B02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830EA-A98C-482B-B0B7-0425D7A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20F55-D4F8-472B-8446-11252671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4D03-FBFD-440B-B4F6-61F4691B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2186D-3DD3-4EE7-BFFF-856BF2B1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BDF76-43B4-40C2-A9AD-35B4B57D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9C5A2-AAD6-44DC-B970-1CB5887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90E42-0DC7-444C-8FCE-97C4A95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2D763-0AE0-4059-9220-49DB0C9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3442B-D0C1-45AA-8165-0D5CCA3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BD4A0-EB37-4CA7-A68B-2777D79C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C274F-32F4-4E06-98EC-E311757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D470E-A9D6-4436-A4BE-77E23DA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FE923-BF77-43DB-B6AA-03F3F35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98D8-62F9-4B99-B39E-98EA9A8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E69A4-FFDA-4E16-A916-8158B66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8D427-C059-40B4-8A98-3309044D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31012-8A16-419B-A947-44B340EE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152CD-B83E-4079-A3D5-EE76B684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43D7B-C6E2-4ABD-82F6-88C238A2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033CC-F7F2-4123-AEAB-AF430E3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B52B5-2687-437A-9070-886E1D8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F7E10-DD0B-4AFE-9A2E-FA5A0178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CB030-B2DD-4A91-BF1F-8F2BE66A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F429C-60C0-4D45-9706-3A4C029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46B-8DF5-45AC-984F-3F1BC40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69D3-A253-47F4-828E-6C65181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EFA7E-F518-4EED-AA42-6B61010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4A2DD-332B-4FC7-8429-2769C77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ACD3F-ABFA-42B6-9925-290D9BF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3BAA6-DE14-48B6-85B0-751C01FD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0C736-C5BD-422E-9524-DE7D4B4F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88094-4FA8-464A-BC9D-FF80C8F6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1513C-684E-4E7C-BACE-447A8BA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32C80-8EF2-4211-BDB2-ED5B71C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D8245-7365-4495-890C-A458E23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45019-1902-418B-893B-312248E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C805-D52D-46D2-A106-724D037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6E556-289A-49D2-877C-8DF4F7F9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5BD4B-702E-4080-BC76-644FBE7B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E5D201-2D9C-4149-A606-247E627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48478-F48B-43B7-A5F3-5203DD4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936F2-BA7D-4ABC-9C04-41FA523F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F9660-7779-4E12-9D88-1D928788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92866-C8B3-411F-8AAC-2B379139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3916BB-1172-47DD-A0C5-E79F1A5E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C4C6B-71AA-4CA5-87D1-E74A5AE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6C58D-DE24-404A-BF70-825239EA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3FDC-0D33-45A9-AF02-53D386F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09AEF-A308-4382-9B9A-0102FAE6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B953B-17F5-47E0-B381-7053DE7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F7140-FF28-490B-8AEF-3E3A1A7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AC53F-9BF3-409D-A2D3-6193C0B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B8E16-F11F-4D57-8B49-F6B7747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965B8-6845-47E3-BBF7-29FC46B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D5168-669E-40ED-8821-15691F9B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90E5E-4F76-46C4-95CA-F732969F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CE64C-57E6-4928-ABB1-C5483AA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FD2F6-524C-440B-8F16-BAAE36E6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636-8359-4D2F-A88D-AC0165CA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545C0-69D1-4EAA-867A-E0CFE951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FCF6E-4752-491D-8C47-E0F4EAA4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5F81C-258B-4D64-8752-1CE3596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B6558-77D9-44E1-8A7E-400FC2C2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98ED9-7B57-4E3E-9069-431A1FA7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8F8F9-4527-4308-9D82-DAE26372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06CE9-DA9A-47E3-9149-60A3867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52088-F308-4540-97D4-A4C5EB2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92D19-7B71-4D53-9EF5-BE295E3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A0C9B-F9CF-4542-A949-4D3F604F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8BFE-4B5B-46F7-BAEB-43842A7C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390AA-068D-4E25-94AA-A4A1FA97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6983A-E6DB-4C94-9919-194C979D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64AD7-CACF-4642-8BB3-38128AA8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EBB6A-0E58-468D-83F5-EBED291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398F5-92A5-4D5B-B492-2B2CB03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AC634-9344-41E6-A464-23F0E2B8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FF647-4435-44C0-8388-E933C1D4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A276D-C541-4472-840B-5D9BE8C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C17AB-74A9-416A-82A8-29516CD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0F69D-7D2E-4B18-B3F7-487240E5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75E1-45B1-4533-B239-6C1C8A69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5C9BB-13ED-4138-896B-5B1496F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9E2DD-ABDE-4B5E-B332-B7AADB70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FD8A2-B9B2-4560-B25A-353ACFB7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3F1E-7531-4A97-912A-BFBCE81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E1C3-1A4A-4742-9BE1-239F5FD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8FC2-D441-4130-849B-587A1C6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699E-8884-4651-81E3-9E34E16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36F-0B7B-457E-AA17-7513C2A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31E8-8F73-4676-BB04-E90438D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3542-364F-4459-8C44-FFAE8C8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2D02-D95B-4837-8517-BD3755D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4F11-7A3C-44E2-9E43-14A6477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C837-FB67-4AEB-9F4F-5414922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1247-1A39-4366-91F2-95DB329B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3F86-7070-4947-BA5F-ED8D0F80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1511A-E976-4CAD-AC80-170062BA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35A5-E1EA-4BF0-B4F2-301D889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AC5B-48C3-4F16-8D56-4CED002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4A7-0B7A-41D6-B5F7-470A2F2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2750-C594-4CBA-B6C8-EF78A98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55D9-4C1E-495C-A580-26678945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DF27-BA42-48E6-9C07-4E142752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1519-1251-4213-A54F-2150CC83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7C24-0A3F-4738-8970-9856441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3B76-7070-49B6-98C8-331C4BF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68FC-0D24-4967-A43D-875E5E7A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A55E-2F10-48B2-A762-2303686F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6FBB-AFEB-473E-9061-D8FFF1A8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A462-8354-4E61-B5EE-224E6C63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3F4-5E83-424E-8A03-EE00B1B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04AF-37AE-4935-A786-A8834189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E9B3-B570-4C81-8A4A-1E2D232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36B9A-9EF5-43F4-8824-05F6E7C3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FFAF-85F3-450F-B885-30B0ED5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4BCC-204B-4427-89B6-C0BECC18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5F05D-085F-498C-8A78-F499A83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C14E-556B-4998-879F-68F7F2A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354C-C248-4EA7-ADF8-C9EDEFF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EC47-DA6F-40A9-B2CC-9097D12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3C65-A8F4-45A7-993F-2E7BF88B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3F4-A73F-441D-BCF1-8F0062EE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54EAC-BED0-47F2-BA13-875974F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C9AFF-F9EE-40BE-94AE-0D15F306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49F1-8D6C-4EE4-BBAB-6B7CDDAB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FAF8-2F1D-43B5-9D84-3FC136F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AFBF-16FE-422C-BF23-30E26A13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EFE9-319F-4E10-B5DA-1EDD0E2A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4270-94A2-4F71-A229-84FE92C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EA63-A0DE-4F01-A837-4A7AA15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E4D0-D8A0-4AFA-8F63-BD1645D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58700-A1D5-48CD-A647-91848E3C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37B-AF62-4110-9BC3-6E0ADB9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77AC-DA69-4661-80BD-633FFC9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9B56-0951-4A2F-8779-0DA1854F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CFD6-6BA3-4D65-A414-3A79E54B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75FA-DFD8-40E8-BC52-07F76C17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96F09-142F-4228-8198-462C8A87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1096-09C0-42BA-89C4-60AE6421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6A94-4E98-4022-B435-6236B9FE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D407-7F8B-41CD-AFB3-92C927FB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19B4-D2E8-423B-AF9C-4247EC7D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E2E7-CF44-4C2D-8F8F-D771019F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3D8-D740-4808-88E8-9E4EC291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2FF9-95F3-4068-B103-511EDDB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C0B1-8842-4DC1-84B5-60C2CF9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AD32-B98A-4337-85A1-59B716B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C1885-AEA7-4163-94F9-E2266A71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3F8C-D113-4127-A507-E7105521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A0A1E-9EBB-4EA6-BDB3-046A9C9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F335B-DFBD-4C76-BB46-3C7122A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C682-845A-4630-9FE0-0F95F2D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16FC-19C2-49E2-B731-4EC42ECF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D8FC-36E1-43F4-A1AB-946A5DC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BF2-1B06-470B-A505-86B55F8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92409-426B-43D3-ACE1-438EE37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99A8-4620-4E47-B20F-5720BF87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9028-E0A8-4A61-B58C-255C0CAD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0B9CB-8F35-4315-88F6-8C88095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0F355-8A6C-479E-97CE-5C3DD5F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252D-F56A-4533-AD20-C4BB8BCF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2B3DD-7234-4F54-AFC0-C3ACF510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A3E15-2A6E-4B23-BF25-BEB8B841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5F545-3B5D-4B4F-A69D-3E99B90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F5C9E-2C4D-4D20-A120-A4867F5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370-D21A-404F-A6E4-2780F4EA3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A2B-607A-48C4-8365-4E95D75C0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AFD-50C2-4CE8-BA95-D3D36EBA0E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00C3-5F39-41B5-B25E-727D287F3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1DCC-3F7E-4CEB-9649-E1269DDF9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8E8-21ED-4BF3-8C5E-522BE239A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8A9-CAE0-4768-A589-0CE58083F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BFC-8041-4D4A-950A-59E6374C2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40E-D166-41A5-B1AC-8EBBABABF8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9B67-0714-4451-9AE2-2BD51BBDD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D3F-E75E-47A3-8794-11F15DCA8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B5F-3A54-446C-906C-3AAE489BD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B33-8952-4AA2-B2CC-C4E8B9891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366-5789-4033-86C6-5FFB6F7ABF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A5E-49C4-4E00-A756-4E6F4570E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177-2C00-43B2-8FDE-3DC06C93B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6055-0DD7-4D9A-B7FB-F47EF9582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401-4F3F-488B-AE26-E793A1B97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44DE-DBA6-42E3-BFCE-91CDC0DEA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E02-0D16-4D9A-994B-708B884513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DAE-99E0-4362-99A0-9601E97CB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8A5-88D5-42E5-B146-C48F64AF7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7AED-A877-499E-9DBA-B5023BC4A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0F6-70EB-443C-8149-47C49E7F3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CD1-4661-4499-8194-E4FDD8FA2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100-1C1C-4B14-AE38-B7CD6AEC00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DC9-E0B1-4A5E-8A9F-56D2D5C86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11D-C82C-406D-BBED-419A789C8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974-1CC6-4ECF-9A8D-AFF623985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191-3C03-4B72-96A7-55838C742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FB41-6CE2-42A3-8E1E-6FD4ACAD30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4EB-6C9C-4CE2-B91A-BAEE7337E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640-C396-4311-B8E2-5425197D4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58F-B26A-425D-8444-81DE2CA55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FFF-63DA-4199-AC1F-52CEFE3B06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2FA-D668-4674-937E-1DE9652AC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9FE-D4CA-4BE3-8CA8-C4ED02A5F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2D50-89B0-4FFD-A8DC-37D466D80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3061-2920-4834-A141-D07CA99C48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5B70-EAD2-497F-892B-270F9CDD6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484280" y="1859040"/>
            <a:ext cx="6134040" cy="11620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1" descr=""/>
          <p:cNvPicPr/>
          <p:nvPr/>
        </p:nvPicPr>
        <p:blipFill>
          <a:blip r:embed="rId2"/>
          <a:stretch/>
        </p:blipFill>
        <p:spPr>
          <a:xfrm>
            <a:off x="995400" y="3114720"/>
            <a:ext cx="71532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91137" descr=""/>
          <p:cNvPicPr/>
          <p:nvPr/>
        </p:nvPicPr>
        <p:blipFill>
          <a:blip r:embed="rId1"/>
          <a:stretch/>
        </p:blipFill>
        <p:spPr>
          <a:xfrm>
            <a:off x="547560" y="2262240"/>
            <a:ext cx="8048880" cy="2333520"/>
          </a:xfrm>
          <a:prstGeom prst="rect">
            <a:avLst/>
          </a:prstGeom>
          <a:ln w="0">
            <a:noFill/>
          </a:ln>
        </p:spPr>
      </p:pic>
      <p:sp>
        <p:nvSpPr>
          <p:cNvPr id="1059" name="矩形 91138"/>
          <p:cNvSpPr/>
          <p:nvPr/>
        </p:nvSpPr>
        <p:spPr>
          <a:xfrm>
            <a:off x="7740720" y="3213000"/>
            <a:ext cx="5144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92161" descr=""/>
          <p:cNvPicPr/>
          <p:nvPr/>
        </p:nvPicPr>
        <p:blipFill>
          <a:blip r:embed="rId1"/>
          <a:stretch/>
        </p:blipFill>
        <p:spPr>
          <a:xfrm>
            <a:off x="519120" y="1528920"/>
            <a:ext cx="8105760" cy="3800160"/>
          </a:xfrm>
          <a:prstGeom prst="rect">
            <a:avLst/>
          </a:prstGeom>
          <a:ln w="0">
            <a:noFill/>
          </a:ln>
        </p:spPr>
      </p:pic>
      <p:sp>
        <p:nvSpPr>
          <p:cNvPr id="1061" name="矩形 92162"/>
          <p:cNvSpPr/>
          <p:nvPr/>
        </p:nvSpPr>
        <p:spPr>
          <a:xfrm>
            <a:off x="4859280" y="2565360"/>
            <a:ext cx="5144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93185" descr=""/>
          <p:cNvPicPr/>
          <p:nvPr/>
        </p:nvPicPr>
        <p:blipFill>
          <a:blip r:embed="rId1"/>
          <a:stretch/>
        </p:blipFill>
        <p:spPr>
          <a:xfrm>
            <a:off x="533520" y="2181240"/>
            <a:ext cx="8076960" cy="2495520"/>
          </a:xfrm>
          <a:prstGeom prst="rect">
            <a:avLst/>
          </a:prstGeom>
          <a:ln w="0">
            <a:noFill/>
          </a:ln>
        </p:spPr>
      </p:pic>
      <p:sp>
        <p:nvSpPr>
          <p:cNvPr id="1063" name="矩形 93186"/>
          <p:cNvSpPr/>
          <p:nvPr/>
        </p:nvSpPr>
        <p:spPr>
          <a:xfrm>
            <a:off x="4645080" y="3691080"/>
            <a:ext cx="79056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93187"/>
          <p:cNvSpPr/>
          <p:nvPr/>
        </p:nvSpPr>
        <p:spPr>
          <a:xfrm>
            <a:off x="1182600" y="4170240"/>
            <a:ext cx="35337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94209" descr=""/>
          <p:cNvPicPr/>
          <p:nvPr/>
        </p:nvPicPr>
        <p:blipFill>
          <a:blip r:embed="rId1"/>
          <a:stretch/>
        </p:blipFill>
        <p:spPr>
          <a:xfrm>
            <a:off x="547560" y="1228680"/>
            <a:ext cx="8048880" cy="4400640"/>
          </a:xfrm>
          <a:prstGeom prst="rect">
            <a:avLst/>
          </a:prstGeom>
          <a:ln w="0">
            <a:noFill/>
          </a:ln>
        </p:spPr>
      </p:pic>
      <p:sp>
        <p:nvSpPr>
          <p:cNvPr id="1066" name="矩形 94210"/>
          <p:cNvSpPr/>
          <p:nvPr/>
        </p:nvSpPr>
        <p:spPr>
          <a:xfrm>
            <a:off x="4091040" y="2938320"/>
            <a:ext cx="12016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94211"/>
          <p:cNvSpPr/>
          <p:nvPr/>
        </p:nvSpPr>
        <p:spPr>
          <a:xfrm>
            <a:off x="5397480" y="3503520"/>
            <a:ext cx="10461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94212"/>
          <p:cNvSpPr/>
          <p:nvPr/>
        </p:nvSpPr>
        <p:spPr>
          <a:xfrm>
            <a:off x="7085160" y="4635360"/>
            <a:ext cx="14475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4213"/>
          <p:cNvSpPr/>
          <p:nvPr/>
        </p:nvSpPr>
        <p:spPr>
          <a:xfrm>
            <a:off x="1741320" y="5084640"/>
            <a:ext cx="88596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95233" descr=""/>
          <p:cNvPicPr/>
          <p:nvPr/>
        </p:nvPicPr>
        <p:blipFill>
          <a:blip r:embed="rId1"/>
          <a:stretch/>
        </p:blipFill>
        <p:spPr>
          <a:xfrm>
            <a:off x="552600" y="938160"/>
            <a:ext cx="8038800" cy="4981680"/>
          </a:xfrm>
          <a:prstGeom prst="rect">
            <a:avLst/>
          </a:prstGeom>
          <a:ln w="0">
            <a:noFill/>
          </a:ln>
        </p:spPr>
      </p:pic>
      <p:sp>
        <p:nvSpPr>
          <p:cNvPr id="1071" name="矩形 95234"/>
          <p:cNvSpPr/>
          <p:nvPr/>
        </p:nvSpPr>
        <p:spPr>
          <a:xfrm>
            <a:off x="3645000" y="2060640"/>
            <a:ext cx="15033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95235"/>
          <p:cNvSpPr/>
          <p:nvPr/>
        </p:nvSpPr>
        <p:spPr>
          <a:xfrm>
            <a:off x="3754440" y="3736800"/>
            <a:ext cx="47782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95236"/>
          <p:cNvSpPr/>
          <p:nvPr/>
        </p:nvSpPr>
        <p:spPr>
          <a:xfrm>
            <a:off x="1152360" y="4292640"/>
            <a:ext cx="73803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95237"/>
          <p:cNvSpPr/>
          <p:nvPr/>
        </p:nvSpPr>
        <p:spPr>
          <a:xfrm>
            <a:off x="1174680" y="4857840"/>
            <a:ext cx="73803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95238"/>
          <p:cNvSpPr/>
          <p:nvPr/>
        </p:nvSpPr>
        <p:spPr>
          <a:xfrm>
            <a:off x="1066680" y="5424480"/>
            <a:ext cx="458496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96257" descr=""/>
          <p:cNvPicPr/>
          <p:nvPr/>
        </p:nvPicPr>
        <p:blipFill>
          <a:blip r:embed="rId1"/>
          <a:stretch/>
        </p:blipFill>
        <p:spPr>
          <a:xfrm>
            <a:off x="547560" y="1243080"/>
            <a:ext cx="80488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97281" descr=""/>
          <p:cNvPicPr/>
          <p:nvPr/>
        </p:nvPicPr>
        <p:blipFill>
          <a:blip r:embed="rId1"/>
          <a:stretch/>
        </p:blipFill>
        <p:spPr>
          <a:xfrm>
            <a:off x="880920" y="1805040"/>
            <a:ext cx="7382160" cy="3247920"/>
          </a:xfrm>
          <a:prstGeom prst="rect">
            <a:avLst/>
          </a:prstGeom>
          <a:ln w="0">
            <a:noFill/>
          </a:ln>
        </p:spPr>
      </p:pic>
      <p:sp>
        <p:nvSpPr>
          <p:cNvPr id="1078" name="矩形 97282"/>
          <p:cNvSpPr/>
          <p:nvPr/>
        </p:nvSpPr>
        <p:spPr>
          <a:xfrm>
            <a:off x="6724800" y="1893960"/>
            <a:ext cx="6555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7283"/>
          <p:cNvSpPr/>
          <p:nvPr/>
        </p:nvSpPr>
        <p:spPr>
          <a:xfrm>
            <a:off x="5765760" y="3014640"/>
            <a:ext cx="8222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97284"/>
          <p:cNvSpPr/>
          <p:nvPr/>
        </p:nvSpPr>
        <p:spPr>
          <a:xfrm>
            <a:off x="7377120" y="4124160"/>
            <a:ext cx="8222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9830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10720" cy="5172120"/>
          </a:xfrm>
          <a:prstGeom prst="rect">
            <a:avLst/>
          </a:prstGeom>
          <a:ln w="0">
            <a:noFill/>
          </a:ln>
        </p:spPr>
      </p:pic>
      <p:sp>
        <p:nvSpPr>
          <p:cNvPr id="1082" name="矩形 98306"/>
          <p:cNvSpPr/>
          <p:nvPr/>
        </p:nvSpPr>
        <p:spPr>
          <a:xfrm>
            <a:off x="2208240" y="3733920"/>
            <a:ext cx="70812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8806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867040" cy="6858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8806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8353440" cy="20574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88068"/>
          <p:cNvSpPr/>
          <p:nvPr/>
        </p:nvSpPr>
        <p:spPr>
          <a:xfrm>
            <a:off x="4500720" y="2492280"/>
            <a:ext cx="5713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1192320" y="2851200"/>
            <a:ext cx="57132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2290680" y="2851200"/>
            <a:ext cx="57168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4356000" y="3141720"/>
            <a:ext cx="57168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961920" y="3549600"/>
            <a:ext cx="5716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2062080" y="3538440"/>
            <a:ext cx="5716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3129120" y="3908520"/>
            <a:ext cx="12985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8115480" y="3897360"/>
            <a:ext cx="7045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684360" y="4221000"/>
            <a:ext cx="792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77"/>
          <p:cNvSpPr/>
          <p:nvPr/>
        </p:nvSpPr>
        <p:spPr>
          <a:xfrm>
            <a:off x="5281560" y="425304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87041" descr=""/>
          <p:cNvPicPr/>
          <p:nvPr/>
        </p:nvPicPr>
        <p:blipFill>
          <a:blip r:embed="rId1"/>
          <a:stretch/>
        </p:blipFill>
        <p:spPr>
          <a:xfrm>
            <a:off x="404640" y="1533600"/>
            <a:ext cx="8334720" cy="37908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87044"/>
          <p:cNvSpPr/>
          <p:nvPr/>
        </p:nvSpPr>
        <p:spPr>
          <a:xfrm>
            <a:off x="6066000" y="268596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7045"/>
          <p:cNvSpPr/>
          <p:nvPr/>
        </p:nvSpPr>
        <p:spPr>
          <a:xfrm>
            <a:off x="3049560" y="3056040"/>
            <a:ext cx="31780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8601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81880" cy="56196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86023"/>
          <p:cNvSpPr/>
          <p:nvPr/>
        </p:nvSpPr>
        <p:spPr>
          <a:xfrm>
            <a:off x="1906560" y="2021040"/>
            <a:ext cx="693720" cy="24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6024"/>
          <p:cNvSpPr/>
          <p:nvPr/>
        </p:nvSpPr>
        <p:spPr>
          <a:xfrm>
            <a:off x="4432320" y="235908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6025"/>
          <p:cNvSpPr/>
          <p:nvPr/>
        </p:nvSpPr>
        <p:spPr>
          <a:xfrm>
            <a:off x="3094200" y="549432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6026"/>
          <p:cNvSpPr/>
          <p:nvPr/>
        </p:nvSpPr>
        <p:spPr>
          <a:xfrm>
            <a:off x="5402160" y="584208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6027"/>
          <p:cNvSpPr/>
          <p:nvPr/>
        </p:nvSpPr>
        <p:spPr>
          <a:xfrm>
            <a:off x="6751800" y="583092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84993" descr=""/>
          <p:cNvPicPr/>
          <p:nvPr/>
        </p:nvPicPr>
        <p:blipFill>
          <a:blip r:embed="rId1"/>
          <a:stretch/>
        </p:blipFill>
        <p:spPr>
          <a:xfrm>
            <a:off x="371520" y="1962000"/>
            <a:ext cx="8400960" cy="2934000"/>
          </a:xfrm>
          <a:prstGeom prst="rect">
            <a:avLst/>
          </a:prstGeom>
          <a:ln w="0">
            <a:noFill/>
          </a:ln>
        </p:spPr>
      </p:pic>
      <p:sp>
        <p:nvSpPr>
          <p:cNvPr id="1046" name="矩形 84996"/>
          <p:cNvSpPr/>
          <p:nvPr/>
        </p:nvSpPr>
        <p:spPr>
          <a:xfrm>
            <a:off x="7045200" y="2805120"/>
            <a:ext cx="69372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4997"/>
          <p:cNvSpPr/>
          <p:nvPr/>
        </p:nvSpPr>
        <p:spPr>
          <a:xfrm>
            <a:off x="3322800" y="3164040"/>
            <a:ext cx="672840" cy="24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4998"/>
          <p:cNvSpPr/>
          <p:nvPr/>
        </p:nvSpPr>
        <p:spPr>
          <a:xfrm>
            <a:off x="5662440" y="4210200"/>
            <a:ext cx="6732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4999"/>
          <p:cNvSpPr/>
          <p:nvPr/>
        </p:nvSpPr>
        <p:spPr>
          <a:xfrm>
            <a:off x="3278160" y="4557600"/>
            <a:ext cx="6732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3969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048520" cy="14572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83970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438960" cy="30765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83971"/>
          <p:cNvSpPr/>
          <p:nvPr/>
        </p:nvSpPr>
        <p:spPr>
          <a:xfrm>
            <a:off x="7596360" y="2133720"/>
            <a:ext cx="51408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82945" descr="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9089" descr=""/>
          <p:cNvPicPr/>
          <p:nvPr/>
        </p:nvPicPr>
        <p:blipFill>
          <a:blip r:embed="rId1"/>
          <a:stretch/>
        </p:blipFill>
        <p:spPr>
          <a:xfrm>
            <a:off x="533520" y="1738440"/>
            <a:ext cx="8076960" cy="338112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9090"/>
          <p:cNvSpPr/>
          <p:nvPr/>
        </p:nvSpPr>
        <p:spPr>
          <a:xfrm>
            <a:off x="7740720" y="2708280"/>
            <a:ext cx="5144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90113" descr=""/>
          <p:cNvPicPr/>
          <p:nvPr/>
        </p:nvPicPr>
        <p:blipFill>
          <a:blip r:embed="rId1"/>
          <a:stretch/>
        </p:blipFill>
        <p:spPr>
          <a:xfrm>
            <a:off x="528480" y="1552680"/>
            <a:ext cx="8087040" cy="37526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90114"/>
          <p:cNvSpPr/>
          <p:nvPr/>
        </p:nvSpPr>
        <p:spPr>
          <a:xfrm>
            <a:off x="4657680" y="2536920"/>
            <a:ext cx="5144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2:26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